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5.png" ContentType="image/png"/>
  <Override PartName="/ppt/media/image14.jpeg" ContentType="image/jpeg"/>
  <Override PartName="/ppt/media/image1.gif" ContentType="image/gif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DB6-2F28-463F-9D2B-C9B029CB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283-E02E-4AC7-A993-D3B69A96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B1E-8994-4F5D-9804-54BFEC50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2D4-5857-4681-AE77-F14FA833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C11-827B-4D69-B90D-AFD4FAA4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1A7-65F0-48C6-87C1-174B5FCC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1D5-0ACC-4D52-8D73-4BCF473F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5EC-56D3-4E3C-918D-44450B09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0AD-9910-44FE-AC7C-9EA1CE8A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71C-E62F-4A6F-B2F9-DB57B636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645-7A47-4647-ABBA-0BFBFFF6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771-7291-4749-9840-D07A562D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5694-B8DF-4B8C-B652-1019CFF52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b2b2b2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C:\My Documents\My Pictures\Animations\camera3.gif"/>
          <p:cNvPicPr/>
          <p:nvPr/>
        </p:nvPicPr>
        <p:blipFill>
          <a:blip r:embed="rId2"/>
          <a:stretch/>
        </p:blipFill>
        <p:spPr>
          <a:xfrm>
            <a:off x="777240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asic Film Term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ypes of Angl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gle is determined by where the camera is placed not the subject matter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les can serve as commentary on the subject mat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rd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Eye Vie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era is placed directly overhe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remely disorien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er is god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_x0008_pool.jpg                                                       00000010&#9;iBook2 HD                      ABA78158:"/>
          <p:cNvPicPr/>
          <p:nvPr/>
        </p:nvPicPr>
        <p:blipFill>
          <a:blip r:embed="rId1"/>
          <a:stretch/>
        </p:blipFill>
        <p:spPr>
          <a:xfrm>
            <a:off x="4818240" y="3429000"/>
            <a:ext cx="3868560" cy="2789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5250960" y="6324480"/>
            <a:ext cx="235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verly Hills Girl Sco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gh Angle (h/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era looks down at what is being photograph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s away power of subject, makes it insignific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s a general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416640" y="3701880"/>
            <a:ext cx="1731960" cy="2698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6340320" y="644508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ithout Li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w Angle (l/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era is located below subject mat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s height and pow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sub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942960" y="623268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Patri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6651720" y="3124080"/>
            <a:ext cx="2035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lique Ang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tilt of the camera s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figures appear to b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ling out of the fr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ggests tens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ran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s used 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oint of vie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a dru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&#10;matrix.jpg                                                     00000010_x0006_ORACLE                         ABA78158:"/>
          <p:cNvPicPr/>
          <p:nvPr/>
        </p:nvPicPr>
        <p:blipFill>
          <a:blip r:embed="rId1"/>
          <a:stretch/>
        </p:blipFill>
        <p:spPr>
          <a:xfrm>
            <a:off x="6095880" y="2514600"/>
            <a:ext cx="2440080" cy="3809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784200" y="636912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nt of View (POV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hot taken from the vantage point a particular character, or what a character se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ye-Level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ghly 5 to 6 feet off the ground, the way an actual observer might view a sce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amera Movemen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mera moves horizontally on a fixed ba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mera points up or down from a fixed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26720"/>
            <a:ext cx="7925040" cy="7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ing line between the edges of the screen image and the enclosing darkness of the theate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photo of fil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&#9;bogie.gif                                                      00000010&#9;iBook2 HD                      ABA78158:"/>
          <p:cNvPicPr/>
          <p:nvPr/>
        </p:nvPicPr>
        <p:blipFill>
          <a:blip r:embed="rId1"/>
          <a:stretch/>
        </p:blipFill>
        <p:spPr>
          <a:xfrm>
            <a:off x="3809880" y="4191120"/>
            <a:ext cx="387360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cking (dolly) sho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mera moves through space on a wheeled truck (or dolly), but stays in the same pla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mera moves up or down through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 camera movement, but a shift in the focal length of the camera lens to give the impression that the camera is getting closer to or farther from an ob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tting from Scene to Scen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ition between scenes when one scenes ends and another one beg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solv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adual transition in which the end of one scene is superimposed over the beginning of a new o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de-out/Fade 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cene gradually goes dark or a new one gradually emerges from dark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optical effect in which one shot appears to push appears to push the preceding one from the scree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r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optical effect in which one shot appears to emerge from a shape on the scree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are the basic elements of film that a director can use to tell his/her sto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editing, these shots are put together to create (hopefully!) a coherent sto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This Mean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13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ypes of Sho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nematic shots are defined by the amount of subject matter within the fr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ts can vary in d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ts vary in time from subliminal (a few frames) to quick (less than a second) to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more than a second but less than a minute)  to lengthy (more than a minut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ablishing Shot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or Extreme Long Shot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t taken from a great distance, almost always an exterior shot, shows much of loca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971800" y="3678120"/>
            <a:ext cx="4419720" cy="2787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213720" y="6445080"/>
            <a:ext cx="386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iana Jones And The Temple Of D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ng Shot (L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 relative term) A shot taken from a sufficient distance to show a landscape, a building, or a large crow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_x0010_austinpowers.jpg                                               00000010_x0006_ORACLE                         ABA78158:"/>
          <p:cNvPicPr/>
          <p:nvPr/>
        </p:nvPicPr>
        <p:blipFill>
          <a:blip r:embed="rId1"/>
          <a:stretch/>
        </p:blipFill>
        <p:spPr>
          <a:xfrm>
            <a:off x="3505320" y="3392640"/>
            <a:ext cx="4952880" cy="3313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612000" y="6048360"/>
            <a:ext cx="255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ustin Power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py Who Shagged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um Shot (M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lso relative) a shot between a long shot and a close-up that might show  two people in full figure or several people from the waist 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429000" y="4235400"/>
            <a:ext cx="3438360" cy="2228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109040" y="644508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Talented Mr. Rip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e-Up (CU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hot of a small object or face that fills the scre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s importance to object photograph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267080" y="385452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254200" y="644364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der Pre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reme Close-Up (ECU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hot of a small object or part of a face that fills the scre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221480" y="6323040"/>
            <a:ext cx="200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aint In Lon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&#9;rocky.jpg                                                      00000010_x0006_ORACLE                         ABA78158:"/>
          <p:cNvPicPr/>
          <p:nvPr/>
        </p:nvPicPr>
        <p:blipFill>
          <a:blip r:embed="rId2"/>
          <a:stretch/>
        </p:blipFill>
        <p:spPr>
          <a:xfrm>
            <a:off x="5410080" y="3733920"/>
            <a:ext cx="1809720" cy="2060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5031720" y="5867280"/>
            <a:ext cx="26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cky Horror Picture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 the Shoulder Sho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ually contains two figures, one with his/her back to the camera, and the other facing the cam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096600" y="63230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llow 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&#13;castaway2.jpg                                                  00000010_x0006_ORACLE                         ABA78158:"/>
          <p:cNvPicPr/>
          <p:nvPr/>
        </p:nvPicPr>
        <p:blipFill>
          <a:blip r:embed="rId2"/>
          <a:stretch/>
        </p:blipFill>
        <p:spPr>
          <a:xfrm>
            <a:off x="798480" y="3581280"/>
            <a:ext cx="4002120" cy="2738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2428200" y="632448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st A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9:13:38Z</dcterms:created>
  <dc:creator>pmayhew</dc:creator>
  <dc:description/>
  <dc:language>en-US</dc:language>
  <cp:lastModifiedBy>Robin Murray</cp:lastModifiedBy>
  <dcterms:modified xsi:type="dcterms:W3CDTF">2011-10-31T19:40:39Z</dcterms:modified>
  <cp:revision>21</cp:revision>
  <dc:subject/>
  <dc:title>Basic Film Terms</dc:title>
</cp:coreProperties>
</file>